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4B93-7B6D-4BCE-9134-5FAA76CB7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04D9-889B-42FF-8C15-D35EB8203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56AA-FF62-40DE-8EA5-14DAA1E86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652D-54AD-4261-BF98-2A28182C6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FDE4-BFB4-4D4E-919B-6C11D47B8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650E-8D68-4011-8BDC-0D73E7DD2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0C25-9758-49E8-B7CA-3391A4C95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8047-0E8C-44DA-A967-CD3BC276A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729B-36D4-4A9C-926F-1528DAC3B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8CCB-E328-45F8-89A4-7BFB3CE07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4B8A-6638-4113-B047-6D225267C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9E27-232A-4018-9B5C-9F88E7724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332AB-943B-464B-A05A-6D308383F2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6554880"/>
            <a:ext cx="9144000" cy="30456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-3240" y="6555240"/>
            <a:ext cx="274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Holt McDougal Geome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8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" name="" descr=""/>
            <p:cNvPicPr/>
            <p:nvPr/>
          </p:nvPicPr>
          <p:blipFill>
            <a:blip r:embed="rId4"/>
            <a:stretch/>
          </p:blipFill>
          <p:spPr>
            <a:xfrm>
              <a:off x="4086360" y="6553080"/>
              <a:ext cx="5057640" cy="304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" name=""/>
          <p:cNvSpPr/>
          <p:nvPr/>
        </p:nvSpPr>
        <p:spPr>
          <a:xfrm>
            <a:off x="194400" y="83160"/>
            <a:ext cx="77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2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1066680" y="11880"/>
            <a:ext cx="807732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Using Inductive Reasoning 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Make Conjec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0880" y="1905120"/>
            <a:ext cx="8382240" cy="281916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 inductive reasoning to identify patterns and make conjectu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nd counterexamples to disprove conjectur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219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6600"/>
                </a:solidFill>
                <a:latin typeface="Arial Black"/>
              </a:rPr>
              <a:t>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04920" y="1828800"/>
            <a:ext cx="823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mplete the conjec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2B: Making a Conj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243828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 number of lines formed by 4 points, no three of which are collinear, i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  ?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80880" y="3351240"/>
            <a:ext cx="861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Verdana"/>
              </a:rPr>
              <a:t>Draw four points. Make sure no three points are collinear. Count the number of lines form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828800" y="4267080"/>
            <a:ext cx="4191120" cy="4701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380880" y="4876920"/>
            <a:ext cx="769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number of lines formed by four points, no three of which are collinear, is 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04920" y="243828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 product of two odd numbers i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  ?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04920" y="1828800"/>
            <a:ext cx="823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mplete the conjec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419004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product of two odd numbers is od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04920" y="3122640"/>
            <a:ext cx="76960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Verdana"/>
              </a:rPr>
              <a:t>List some examples and look for a patte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Verdana"/>
              </a:rPr>
              <a:t>	</a:t>
            </a:r>
            <a:r>
              <a:rPr b="0" i="1" lang="en-US" sz="2400" spc="-1" strike="noStrike">
                <a:solidFill>
                  <a:srgbClr val="3333ff"/>
                </a:solidFill>
                <a:latin typeface="Verdana"/>
              </a:rPr>
              <a:t>1 </a:t>
            </a:r>
            <a:r>
              <a:rPr b="0" lang="en-US" sz="2400" spc="-1" strike="noStrike">
                <a:solidFill>
                  <a:srgbClr val="3333ff"/>
                </a:solidFill>
                <a:latin typeface="Symbol"/>
                <a:ea typeface="Symbol"/>
              </a:rPr>
              <a:t></a:t>
            </a:r>
            <a:r>
              <a:rPr b="0" i="1" lang="en-US" sz="2400" spc="-1" strike="noStrike">
                <a:solidFill>
                  <a:srgbClr val="3333ff"/>
                </a:solidFill>
                <a:latin typeface="Verdana"/>
              </a:rPr>
              <a:t> 1 = 1       3 </a:t>
            </a:r>
            <a:r>
              <a:rPr b="0" lang="en-US" sz="2400" spc="-1" strike="noStrike">
                <a:solidFill>
                  <a:srgbClr val="3333ff"/>
                </a:solidFill>
                <a:latin typeface="Symbol"/>
                <a:ea typeface="Symbol"/>
              </a:rPr>
              <a:t></a:t>
            </a:r>
            <a:r>
              <a:rPr b="0" i="1" lang="en-US" sz="2400" spc="-1" strike="noStrike">
                <a:solidFill>
                  <a:srgbClr val="3333ff"/>
                </a:solidFill>
                <a:latin typeface="Verdana"/>
              </a:rPr>
              <a:t> 3 = 9        5 </a:t>
            </a:r>
            <a:r>
              <a:rPr b="0" lang="en-US" sz="2400" spc="-1" strike="noStrike">
                <a:solidFill>
                  <a:srgbClr val="3333ff"/>
                </a:solidFill>
                <a:latin typeface="Symbol"/>
                <a:ea typeface="Symbol"/>
              </a:rPr>
              <a:t></a:t>
            </a:r>
            <a:r>
              <a:rPr b="0" i="1" lang="en-US" sz="2400" spc="-1" strike="noStrike">
                <a:solidFill>
                  <a:srgbClr val="3333ff"/>
                </a:solidFill>
                <a:latin typeface="Verdana"/>
              </a:rPr>
              <a:t> 7 = 3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3: Biology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52280" y="1603440"/>
            <a:ext cx="8839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 cloud of water leaving a whale’s blowhole when it exhales is called its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blow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. A biologist observed blue-whale blows of 25 ft, 29 ft, 27 ft, and 24 ft. Another biologist recorded humpback-whale blows of 8 ft, 7 ft, 8 ft, and 9 ft.  Make a conjecture based on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304920" y="4191120"/>
          <a:ext cx="8076960" cy="1892160"/>
        </p:xfrm>
        <a:graphic>
          <a:graphicData uri="http://schemas.openxmlformats.org/drawingml/2006/table">
            <a:tbl>
              <a:tblPr/>
              <a:tblGrid>
                <a:gridCol w="4949640"/>
                <a:gridCol w="765360"/>
                <a:gridCol w="787320"/>
                <a:gridCol w="787320"/>
                <a:gridCol w="787320"/>
              </a:tblGrid>
              <a:tr h="534240"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Heights of Whale Blow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2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Height of Blue-whale Blow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Height of Humpback-whale Blow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3: Biology Application Contin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44600" y="186048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smallest blue-whale blow (24 ft) is almost three times higher than the greatest humpback-whale blow (9 ft). Possible conject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44600" y="3198960"/>
            <a:ext cx="830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height of a blue whale’s blow is about three times greater than a humpback whale’s bl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426564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height of a blue-whale’s blow is greater than a humpback whale’s bl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4920" y="137160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ke a conjecture about the lengths of male and female whales based on the dat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80880" y="437220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Verdana"/>
              </a:rPr>
              <a:t>In 5 of the 6 pairs of numbers above the female is long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80880" y="518040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male whales are longer than male wh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380880" y="2470320"/>
          <a:ext cx="8458200" cy="1415880"/>
        </p:xfrm>
        <a:graphic>
          <a:graphicData uri="http://schemas.openxmlformats.org/drawingml/2006/table">
            <a:tbl>
              <a:tblPr/>
              <a:tblGrid>
                <a:gridCol w="2943360"/>
                <a:gridCol w="919080"/>
                <a:gridCol w="919080"/>
                <a:gridCol w="919440"/>
                <a:gridCol w="919080"/>
                <a:gridCol w="919080"/>
                <a:gridCol w="919080"/>
              </a:tblGrid>
              <a:tr h="478800"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verage Whale Length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28080">
                      <a:solidFill>
                        <a:srgbClr val="009900"/>
                      </a:solidFill>
                    </a:lnB>
                    <a:solidFill>
                      <a:srgbClr val="99ff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ngth of Female (f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28080">
                      <a:solidFill>
                        <a:srgbClr val="0099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28080">
                      <a:solidFill>
                        <a:srgbClr val="0099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28080">
                      <a:solidFill>
                        <a:srgbClr val="0099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28080">
                      <a:solidFill>
                        <a:srgbClr val="0099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28080">
                      <a:solidFill>
                        <a:srgbClr val="0099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28080">
                      <a:solidFill>
                        <a:srgbClr val="0099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28080">
                      <a:solidFill>
                        <a:srgbClr val="0099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ngth of Male (f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04920" y="29718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show that a conjecture is false, you have to find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only on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example in which the conjecture is not true.  This case is called 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counterexampl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4920" y="16002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show that a conjecture is always true, you must prove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04920" y="480060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counterexample can be a drawing, a statement, or a numb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1523880" y="1397160"/>
          <a:ext cx="6324480" cy="4063680"/>
        </p:xfrm>
        <a:graphic>
          <a:graphicData uri="http://schemas.openxmlformats.org/drawingml/2006/table">
            <a:tbl>
              <a:tblPr/>
              <a:tblGrid>
                <a:gridCol w="6324480"/>
              </a:tblGrid>
              <a:tr h="1015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ductive Reason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080">
                      <a:solidFill>
                        <a:srgbClr val="0099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1015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Look for a pattern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080">
                      <a:solidFill>
                        <a:srgbClr val="0099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.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Make a conjecture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.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Prove the conjecture or find a  counterexample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04920" y="1828800"/>
            <a:ext cx="823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how that the conjecture is false by finding a counterexam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4A: Finding a Counter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04920" y="25909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or every integer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is posi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60360" y="319896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ick integers and substitute them into the expression to see if the conjecture hold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917640" y="4113720"/>
            <a:ext cx="780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1. Sinc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1 and 1 &gt; 0, the conjecture hold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332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80880" y="473868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–3. Sinc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–27 and –27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0, the conjecture is false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332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330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332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08480" y="5713920"/>
            <a:ext cx="415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–3 is a counterexamp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304920" y="1828800"/>
            <a:ext cx="823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how that the conjecture is false by finding a counterexam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4B: Finding a Counter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04920" y="281952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wo complementary angles are not congru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0880" y="411336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Verdana"/>
              </a:rPr>
              <a:t>If the two congruent angles both measure 45°, the conjecture is fals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80880" y="350532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5° + 45° = 90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04920" y="1828800"/>
            <a:ext cx="823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how that the conjecture is false by finding a counterexam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4C: Finding a Counter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04920" y="275904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 monthly high temperature in Abilene is never below 90°F for two months in a r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01520" y="3733920"/>
          <a:ext cx="8839440" cy="1245960"/>
        </p:xfrm>
        <a:graphic>
          <a:graphicData uri="http://schemas.openxmlformats.org/drawingml/2006/table">
            <a:tbl>
              <a:tblPr/>
              <a:tblGrid>
                <a:gridCol w="698760"/>
                <a:gridCol w="749160"/>
                <a:gridCol w="799920"/>
                <a:gridCol w="698760"/>
                <a:gridCol w="774720"/>
                <a:gridCol w="734760"/>
                <a:gridCol w="757440"/>
                <a:gridCol w="755640"/>
                <a:gridCol w="679320"/>
                <a:gridCol w="754200"/>
                <a:gridCol w="681120"/>
                <a:gridCol w="755640"/>
              </a:tblGrid>
              <a:tr h="459720">
                <a:tc gridSpan="1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onthly High Temperatures (ºF) in Abilene, Tex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Fe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p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u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e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O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No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e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9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9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" name=""/>
          <p:cNvSpPr/>
          <p:nvPr/>
        </p:nvSpPr>
        <p:spPr>
          <a:xfrm>
            <a:off x="152280" y="5332680"/>
            <a:ext cx="950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monthly high temperatures in January and February were 88°F and 89°F, so the conjecture is fals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80880" y="1981080"/>
            <a:ext cx="8382240" cy="182880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ductive reaso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j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unter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2952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Arial Black"/>
              </a:rPr>
              <a:t>Vocabul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4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243828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or any real number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≥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04920" y="1676520"/>
            <a:ext cx="823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how that the conjecture is false by finding a counterexam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304920" y="2933640"/>
            <a:ext cx="2286000" cy="703800"/>
            <a:chOff x="304920" y="2933640"/>
            <a:chExt cx="2286000" cy="703800"/>
          </a:xfrm>
        </p:grpSpPr>
        <p:sp>
          <p:nvSpPr>
            <p:cNvPr id="137" name=""/>
            <p:cNvSpPr/>
            <p:nvPr/>
          </p:nvSpPr>
          <p:spPr>
            <a:xfrm>
              <a:off x="304920" y="304704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Let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=    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8" name=""/>
            <p:cNvGrpSpPr/>
            <p:nvPr/>
          </p:nvGrpSpPr>
          <p:grpSpPr>
            <a:xfrm>
              <a:off x="1536840" y="2933640"/>
              <a:ext cx="457200" cy="703800"/>
              <a:chOff x="1536840" y="2933640"/>
              <a:chExt cx="457200" cy="703800"/>
            </a:xfrm>
          </p:grpSpPr>
          <p:sp>
            <p:nvSpPr>
              <p:cNvPr id="139" name=""/>
              <p:cNvSpPr/>
              <p:nvPr/>
            </p:nvSpPr>
            <p:spPr>
              <a:xfrm>
                <a:off x="1536840" y="2933640"/>
                <a:ext cx="4572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Verdana"/>
                  </a:rPr>
                  <a:t>1 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549800" y="330192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1" name=""/>
          <p:cNvSpPr/>
          <p:nvPr/>
        </p:nvSpPr>
        <p:spPr>
          <a:xfrm>
            <a:off x="304920" y="4724280"/>
            <a:ext cx="556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conjecture is fal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304920" y="3809880"/>
            <a:ext cx="7391160" cy="716760"/>
            <a:chOff x="304920" y="3809880"/>
            <a:chExt cx="7391160" cy="716760"/>
          </a:xfrm>
        </p:grpSpPr>
        <p:grpSp>
          <p:nvGrpSpPr>
            <p:cNvPr id="143" name=""/>
            <p:cNvGrpSpPr/>
            <p:nvPr/>
          </p:nvGrpSpPr>
          <p:grpSpPr>
            <a:xfrm>
              <a:off x="304920" y="3809880"/>
              <a:ext cx="7391160" cy="716760"/>
              <a:chOff x="304920" y="3809880"/>
              <a:chExt cx="7391160" cy="716760"/>
            </a:xfrm>
          </p:grpSpPr>
          <p:sp>
            <p:nvSpPr>
              <p:cNvPr id="144" name=""/>
              <p:cNvSpPr/>
              <p:nvPr/>
            </p:nvSpPr>
            <p:spPr>
              <a:xfrm>
                <a:off x="304920" y="3975480"/>
                <a:ext cx="7391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Since        =     ,   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≥      .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1219320" y="3822840"/>
                <a:ext cx="838080" cy="703800"/>
                <a:chOff x="1219320" y="3822840"/>
                <a:chExt cx="838080" cy="703800"/>
              </a:xfrm>
            </p:grpSpPr>
            <p:grpSp>
              <p:nvGrpSpPr>
                <p:cNvPr id="146" name=""/>
                <p:cNvGrpSpPr/>
                <p:nvPr/>
              </p:nvGrpSpPr>
              <p:grpSpPr>
                <a:xfrm>
                  <a:off x="1270080" y="3822840"/>
                  <a:ext cx="457200" cy="703800"/>
                  <a:chOff x="1270080" y="3822840"/>
                  <a:chExt cx="457200" cy="703800"/>
                </a:xfrm>
              </p:grpSpPr>
              <p:sp>
                <p:nvSpPr>
                  <p:cNvPr id="147" name=""/>
                  <p:cNvSpPr/>
                  <p:nvPr/>
                </p:nvSpPr>
                <p:spPr>
                  <a:xfrm>
                    <a:off x="1270080" y="3822840"/>
                    <a:ext cx="457200" cy="703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Verdana"/>
                      </a:rPr>
                      <a:t>1 2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" name=""/>
                  <p:cNvSpPr/>
                  <p:nvPr/>
                </p:nvSpPr>
                <p:spPr>
                  <a:xfrm>
                    <a:off x="1283040" y="4191120"/>
                    <a:ext cx="3045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9" name=""/>
                <p:cNvSpPr/>
                <p:nvPr/>
              </p:nvSpPr>
              <p:spPr>
                <a:xfrm>
                  <a:off x="1219320" y="3911760"/>
                  <a:ext cx="75960" cy="533160"/>
                </a:xfrm>
                <a:custGeom>
                  <a:avLst/>
                  <a:gdLst>
                    <a:gd name="textAreaLeft" fmla="*/ 22320 w 75960"/>
                    <a:gd name="textAreaRight" fmla="*/ 76320 w 75960"/>
                    <a:gd name="textAreaTop" fmla="*/ 84240 h 533160"/>
                    <a:gd name="textAreaBottom" fmla="*/ 448920 h 5331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0800" y="0"/>
                        <a:pt x="0" y="3420"/>
                        <a:pt x="0" y="6840"/>
                      </a:cubicBezTo>
                      <a:lnTo>
                        <a:pt x="0" y="14760"/>
                      </a:lnTo>
                      <a:cubicBezTo>
                        <a:pt x="0" y="18180"/>
                        <a:pt x="10800" y="21600"/>
                        <a:pt x="21600" y="216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 flipH="1">
                  <a:off x="1600200" y="3924360"/>
                  <a:ext cx="76320" cy="533520"/>
                </a:xfrm>
                <a:custGeom>
                  <a:avLst/>
                  <a:gdLst>
                    <a:gd name="textAreaLeft" fmla="*/ 22320 w 76320"/>
                    <a:gd name="textAreaRight" fmla="*/ 76320 w 76320"/>
                    <a:gd name="textAreaTop" fmla="*/ 133200 h 533520"/>
                    <a:gd name="textAreaBottom" fmla="*/ 400320 h 5335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0800" y="0"/>
                        <a:pt x="0" y="5400"/>
                        <a:pt x="0" y="10800"/>
                      </a:cubicBezTo>
                      <a:lnTo>
                        <a:pt x="0" y="10800"/>
                      </a:lnTo>
                      <a:cubicBezTo>
                        <a:pt x="0" y="16200"/>
                        <a:pt x="10800" y="21600"/>
                        <a:pt x="21600" y="216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1600200" y="3848040"/>
                  <a:ext cx="45720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2" name=""/>
              <p:cNvGrpSpPr/>
              <p:nvPr/>
            </p:nvGrpSpPr>
            <p:grpSpPr>
              <a:xfrm>
                <a:off x="3276720" y="3809880"/>
                <a:ext cx="457200" cy="703800"/>
                <a:chOff x="3276720" y="3809880"/>
                <a:chExt cx="457200" cy="703800"/>
              </a:xfrm>
            </p:grpSpPr>
            <p:sp>
              <p:nvSpPr>
                <p:cNvPr id="153" name=""/>
                <p:cNvSpPr/>
                <p:nvPr/>
              </p:nvSpPr>
              <p:spPr>
                <a:xfrm>
                  <a:off x="3276720" y="3809880"/>
                  <a:ext cx="457200" cy="70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Verdana"/>
                    </a:rPr>
                    <a:t>1 2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3289680" y="4178160"/>
                  <a:ext cx="304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5" name=""/>
              <p:cNvGrpSpPr/>
              <p:nvPr/>
            </p:nvGrpSpPr>
            <p:grpSpPr>
              <a:xfrm>
                <a:off x="2057400" y="3809880"/>
                <a:ext cx="457200" cy="703800"/>
                <a:chOff x="2057400" y="3809880"/>
                <a:chExt cx="457200" cy="703800"/>
              </a:xfrm>
            </p:grpSpPr>
            <p:sp>
              <p:nvSpPr>
                <p:cNvPr id="156" name=""/>
                <p:cNvSpPr/>
                <p:nvPr/>
              </p:nvSpPr>
              <p:spPr>
                <a:xfrm>
                  <a:off x="2057400" y="3809880"/>
                  <a:ext cx="457200" cy="70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Verdana"/>
                    </a:rPr>
                    <a:t>1 4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2070360" y="4178160"/>
                  <a:ext cx="304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8" name=""/>
              <p:cNvGrpSpPr/>
              <p:nvPr/>
            </p:nvGrpSpPr>
            <p:grpSpPr>
              <a:xfrm>
                <a:off x="2590920" y="3809880"/>
                <a:ext cx="457200" cy="703800"/>
                <a:chOff x="2590920" y="3809880"/>
                <a:chExt cx="457200" cy="70380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2590920" y="3809880"/>
                  <a:ext cx="457200" cy="70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Verdana"/>
                    </a:rPr>
                    <a:t>1 4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2603880" y="4178160"/>
                  <a:ext cx="304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1" name=""/>
            <p:cNvSpPr/>
            <p:nvPr/>
          </p:nvSpPr>
          <p:spPr>
            <a:xfrm flipH="1">
              <a:off x="3035160" y="4038480"/>
              <a:ext cx="15264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4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920" y="259092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upplementary angles are adjac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04920" y="1676520"/>
            <a:ext cx="823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how that the conjecture is false by finding a counterexam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04920" y="4724280"/>
            <a:ext cx="716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supplementary angles are not adjacent, so the conjecture is fal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1294920" y="3352680"/>
            <a:ext cx="5410800" cy="1028880"/>
            <a:chOff x="1294920" y="3352680"/>
            <a:chExt cx="5410800" cy="1028880"/>
          </a:xfrm>
        </p:grpSpPr>
        <p:grpSp>
          <p:nvGrpSpPr>
            <p:cNvPr id="167" name=""/>
            <p:cNvGrpSpPr/>
            <p:nvPr/>
          </p:nvGrpSpPr>
          <p:grpSpPr>
            <a:xfrm>
              <a:off x="1294920" y="3352680"/>
              <a:ext cx="5410800" cy="990720"/>
              <a:chOff x="1294920" y="3352680"/>
              <a:chExt cx="5410800" cy="990720"/>
            </a:xfrm>
          </p:grpSpPr>
          <p:sp>
            <p:nvSpPr>
              <p:cNvPr id="168" name=""/>
              <p:cNvSpPr/>
              <p:nvPr/>
            </p:nvSpPr>
            <p:spPr>
              <a:xfrm flipH="1" flipV="1">
                <a:off x="1600200" y="3352680"/>
                <a:ext cx="2362320" cy="99072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9" name=""/>
              <p:cNvGrpSpPr/>
              <p:nvPr/>
            </p:nvGrpSpPr>
            <p:grpSpPr>
              <a:xfrm>
                <a:off x="1294920" y="3352680"/>
                <a:ext cx="5410800" cy="990720"/>
                <a:chOff x="1294920" y="3352680"/>
                <a:chExt cx="5410800" cy="990720"/>
              </a:xfrm>
            </p:grpSpPr>
            <p:sp>
              <p:nvSpPr>
                <p:cNvPr id="170" name=""/>
                <p:cNvSpPr/>
                <p:nvPr/>
              </p:nvSpPr>
              <p:spPr>
                <a:xfrm flipH="1">
                  <a:off x="1294920" y="4343400"/>
                  <a:ext cx="2667240" cy="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71" name=""/>
                <p:cNvGrpSpPr/>
                <p:nvPr/>
              </p:nvGrpSpPr>
              <p:grpSpPr>
                <a:xfrm>
                  <a:off x="2158920" y="3352680"/>
                  <a:ext cx="4546800" cy="990720"/>
                  <a:chOff x="2158920" y="3352680"/>
                  <a:chExt cx="4546800" cy="990720"/>
                </a:xfrm>
              </p:grpSpPr>
              <p:sp>
                <p:nvSpPr>
                  <p:cNvPr id="172" name=""/>
                  <p:cNvSpPr/>
                  <p:nvPr/>
                </p:nvSpPr>
                <p:spPr>
                  <a:xfrm>
                    <a:off x="4495680" y="4343400"/>
                    <a:ext cx="2210040" cy="0"/>
                  </a:xfrm>
                  <a:prstGeom prst="line">
                    <a:avLst/>
                  </a:prstGeom>
                  <a:ln w="57240">
                    <a:solidFill>
                      <a:srgbClr val="ff0000"/>
                    </a:solidFill>
                    <a:miter/>
                    <a:tailEnd len="med" type="stealth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"/>
                  <p:cNvSpPr/>
                  <p:nvPr/>
                </p:nvSpPr>
                <p:spPr>
                  <a:xfrm flipH="1" flipV="1">
                    <a:off x="2158920" y="3352680"/>
                    <a:ext cx="2362320" cy="990720"/>
                  </a:xfrm>
                  <a:prstGeom prst="line">
                    <a:avLst/>
                  </a:prstGeom>
                  <a:ln w="57240">
                    <a:solidFill>
                      <a:srgbClr val="ff0000"/>
                    </a:solidFill>
                    <a:miter/>
                    <a:tailEnd len="med" type="stealth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74" name=""/>
            <p:cNvSpPr/>
            <p:nvPr/>
          </p:nvSpPr>
          <p:spPr>
            <a:xfrm>
              <a:off x="2832120" y="401328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Verdana"/>
                </a:rPr>
                <a:t>23</a:t>
              </a:r>
              <a:r>
                <a:rPr b="0" lang="en-US" sz="1800" spc="-1" strike="noStrike">
                  <a:solidFill>
                    <a:srgbClr val="ff0000"/>
                  </a:solidFill>
                  <a:latin typeface="Arial"/>
                  <a:ea typeface="Arial"/>
                </a:rPr>
                <a:t>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495680" y="401328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Verdana"/>
                </a:rPr>
                <a:t>157</a:t>
              </a:r>
              <a:r>
                <a:rPr b="0" lang="en-US" sz="1800" spc="-1" strike="noStrike">
                  <a:solidFill>
                    <a:srgbClr val="ff0000"/>
                  </a:solidFill>
                  <a:latin typeface="Arial"/>
                  <a:ea typeface="Arial"/>
                </a:rPr>
                <a:t>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4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04920" y="243828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 radius of every planet in the solar system is less than 50,000 k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04920" y="1676520"/>
            <a:ext cx="823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how that the conjecture is false by finding a counterexam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2280" y="3352680"/>
          <a:ext cx="8839440" cy="1779840"/>
        </p:xfrm>
        <a:graphic>
          <a:graphicData uri="http://schemas.openxmlformats.org/drawingml/2006/table">
            <a:tbl>
              <a:tblPr/>
              <a:tblGrid>
                <a:gridCol w="1143000"/>
                <a:gridCol w="914400"/>
                <a:gridCol w="814680"/>
                <a:gridCol w="1090440"/>
                <a:gridCol w="1143000"/>
                <a:gridCol w="1219320"/>
                <a:gridCol w="1218960"/>
                <a:gridCol w="1295640"/>
              </a:tblGrid>
              <a:tr h="435240">
                <a:tc gridSpan="8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lanets’ Diameters (km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28080">
                      <a:solidFill>
                        <a:srgbClr val="009900"/>
                      </a:solidFill>
                    </a:lnB>
                    <a:solidFill>
                      <a:srgbClr val="99ff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7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rcu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080">
                      <a:solidFill>
                        <a:srgbClr val="0099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en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080">
                      <a:solidFill>
                        <a:srgbClr val="0099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ar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28080">
                      <a:solidFill>
                        <a:srgbClr val="0099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28080">
                      <a:solidFill>
                        <a:srgbClr val="0099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upi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28080">
                      <a:solidFill>
                        <a:srgbClr val="0099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atur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28080">
                      <a:solidFill>
                        <a:srgbClr val="0099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ran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080">
                      <a:solidFill>
                        <a:srgbClr val="0099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eptu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080">
                      <a:solidFill>
                        <a:srgbClr val="0099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6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,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7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3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1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9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0" name=""/>
          <p:cNvSpPr/>
          <p:nvPr/>
        </p:nvSpPr>
        <p:spPr>
          <a:xfrm>
            <a:off x="304920" y="536400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nce the radius is half the diameter, the radius of Jupiter is 71,500 km and the radius of Saturn is 60,500 km. The conjecture is fal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114800" y="3657600"/>
            <a:ext cx="2286000" cy="1752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Lesson Qui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04920" y="1526760"/>
            <a:ext cx="7924680" cy="220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d the next item in each patte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0.7, 0.07, 0.007, …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2120" y="266580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0.0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4572000" y="1981080"/>
            <a:ext cx="3386160" cy="132552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8077320" y="2133720"/>
            <a:ext cx="533160" cy="1066680"/>
          </a:xfrm>
          <a:prstGeom prst="upArrow">
            <a:avLst>
              <a:gd name="adj1" fmla="val 50000"/>
              <a:gd name="adj2" fmla="val 5001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880" y="3429000"/>
            <a:ext cx="861084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termine if each conjecture is true. If false, give a counterexam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he quotient of two negative numbers is a positive number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Every prime number is od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5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wo supplementary angles are not congru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6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he square of an odd integer is od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181480" y="512964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false;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905120" y="46472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095880" y="542196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false; 90° and 9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553080" y="610776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04920" y="1828800"/>
            <a:ext cx="823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d the next item in the patte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1A: Identifying a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243828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January, March, May, 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4920" y="373392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next month is Jul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4920" y="3123000"/>
            <a:ext cx="83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Verdana"/>
              </a:rPr>
              <a:t>Alternating months of the year make up the patte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04920" y="1828800"/>
            <a:ext cx="823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d the next item in the patte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1B: Identifying a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7, 14, 21, 28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04920" y="373392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next multiple is 35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04920" y="305496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Verdana"/>
              </a:rPr>
              <a:t>Multiples of 7 make up the patte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80880" y="2209680"/>
            <a:ext cx="3313080" cy="11480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04920" y="1828800"/>
            <a:ext cx="823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d the next item in the patte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1C: Identifying a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350388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Verdana"/>
              </a:rPr>
              <a:t>In this pattern, the figure rotates 90° counter-clockwise each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380880" y="4495680"/>
            <a:ext cx="3962520" cy="838440"/>
            <a:chOff x="380880" y="4495680"/>
            <a:chExt cx="3962520" cy="838440"/>
          </a:xfrm>
        </p:grpSpPr>
        <p:sp>
          <p:nvSpPr>
            <p:cNvPr id="67" name=""/>
            <p:cNvSpPr/>
            <p:nvPr/>
          </p:nvSpPr>
          <p:spPr>
            <a:xfrm rot="5400000">
              <a:off x="3123720" y="4648320"/>
              <a:ext cx="838440" cy="53316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80880" y="4648320"/>
              <a:ext cx="396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The next figure is       .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-76320" y="1905120"/>
            <a:ext cx="944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d the next item in the pattern 0.4, 0.04, 0.004, 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277164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Verdana"/>
              </a:rPr>
              <a:t>When reading the pattern from left to right, the next item in the pattern has one more zero after the decimal poi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390060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next item would have 3 zeros after the decimal point, or 0.000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uctive Reaso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just used Inductive Reasoning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ve all those problem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inductive reasoning?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62120" y="1193760"/>
            <a:ext cx="792468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en several examples form a pattern and you assume the pattern will continue, you are applying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inductive reasoning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Inductive reasoning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s the process of reasoning that a rule or statement is true because specific cases are true. You may use inductive reasoning to draw a conclusion from a patter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statement you believe to be true based on inductive reasoning is called 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conjectur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304920" y="1828800"/>
            <a:ext cx="823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mplete the conjec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2A: Making a Conj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04920" y="243828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 sum of two positive numbers i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  ?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80880" y="487692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sum of two positive numbers is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ositiv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3230280"/>
            <a:ext cx="769608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Verdana"/>
              </a:rPr>
              <a:t>List some examples and look for a patte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Verdana"/>
              </a:rPr>
              <a:t>	</a:t>
            </a:r>
            <a:r>
              <a:rPr b="0" i="1" lang="en-US" sz="2400" spc="-1" strike="noStrike">
                <a:solidFill>
                  <a:srgbClr val="3333ff"/>
                </a:solidFill>
                <a:latin typeface="Verdana"/>
              </a:rPr>
              <a:t>1 + 1 = 2</a:t>
            </a:r>
            <a:r>
              <a:rPr b="0" i="1" lang="en-US" sz="2400" spc="-1" strike="noStrike">
                <a:solidFill>
                  <a:srgbClr val="3333ff"/>
                </a:solidFill>
                <a:latin typeface="Verdana"/>
              </a:rPr>
              <a:t>	</a:t>
            </a:r>
            <a:r>
              <a:rPr b="0" i="1" lang="en-US" sz="2400" spc="-1" strike="noStrike">
                <a:solidFill>
                  <a:srgbClr val="3333ff"/>
                </a:solidFill>
                <a:latin typeface="Verdana"/>
              </a:rPr>
              <a:t>3.14 + 0.01 = 3.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Verdana"/>
              </a:rPr>
              <a:t>	</a:t>
            </a:r>
            <a:r>
              <a:rPr b="0" i="1" lang="en-US" sz="2400" spc="-1" strike="noStrike">
                <a:solidFill>
                  <a:srgbClr val="3333ff"/>
                </a:solidFill>
                <a:latin typeface="Verdana"/>
              </a:rPr>
              <a:t>3,900 + 1,000,017 = 1,003,9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4T18:20:28Z</dcterms:created>
  <dc:creator>HRW</dc:creator>
  <dc:description/>
  <dc:language>en-US</dc:language>
  <cp:lastModifiedBy>koneli</cp:lastModifiedBy>
  <dcterms:modified xsi:type="dcterms:W3CDTF">2010-10-18T20:45:42Z</dcterms:modified>
  <cp:revision>112</cp:revision>
  <dc:subject/>
  <dc:title>Slide 1</dc:title>
</cp:coreProperties>
</file>